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8B22-8794-4D31-92A8-0E25F8D6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C22-4920-40D8-A806-35852006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EFC-762C-4B5C-B36F-50E950D7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17E0-4D5F-43EF-80BE-A651C89D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3BC2-A251-4836-B6FB-70D319D5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8347-AD91-436E-9173-E571EDB9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938E-A01E-41C1-B4C4-45CD706C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BEB3-1562-455F-A539-F1BE0F8C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B484-41B2-493F-B0DF-17853D1E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5608-CBBB-4171-95E5-140F9446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32C7-E23B-4822-AFA1-BC0F782D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FAB0-0260-43A9-A8C9-38061BA1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AE6D-4A25-4938-ACA8-EF97A7FA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403E-D3EF-4C3D-BD4A-8660BD80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693B-3C84-479E-9EC9-F08DA084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5A8B-66A5-435B-A2E5-79A86FBC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150B-3228-4EB1-A152-7992858D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4C9-7FE6-49BE-B6E2-48BFAFEF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B890-BA90-4901-AF0F-FCB28D86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162-42A1-460A-8F19-9858828A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9660-BA52-4239-BB00-1AFB2493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D36-6385-4C81-B831-319D7AE6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AF74-3A25-4778-B4D8-27F4A50B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77E-181F-4041-BCEF-6AACF472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B806-BBA3-41E0-BB81-C2DE4862B32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F867-0EFC-4350-9534-DAA5352A3A9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es-ES" sz="4800" spc="-1" strike="noStrike">
                <a:solidFill>
                  <a:srgbClr val="ffffcc"/>
                </a:solidFill>
                <a:latin typeface="Snap ITC"/>
              </a:rPr>
              <a:t>CULTURAS PREHISPÁNICAS DEL PERÚ</a:t>
            </a:r>
            <a:br>
              <a:rPr sz="4800"/>
            </a:br>
            <a:br>
              <a:rPr sz="4800"/>
            </a:br>
            <a:r>
              <a:rPr b="0" lang="es-ES" sz="4800" spc="-1" strike="noStrike">
                <a:solidFill>
                  <a:srgbClr val="ffffcc"/>
                </a:solidFill>
                <a:latin typeface="Snap ITC"/>
              </a:rPr>
              <a:t>CAJAMARC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780000" y="5373360"/>
            <a:ext cx="44640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of. Elizabeth Espino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0000002cbb"/>
          <p:cNvPicPr/>
          <p:nvPr/>
        </p:nvPicPr>
        <p:blipFill>
          <a:blip r:embed="rId1"/>
          <a:stretch/>
        </p:blipFill>
        <p:spPr>
          <a:xfrm>
            <a:off x="1332000" y="4365720"/>
            <a:ext cx="1695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Comic Sans MS"/>
              </a:rPr>
              <a:t>Aspecto Geográfic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mic Sans MS"/>
              </a:rPr>
              <a:t>Centro: departamento de Cajamarca (Sierra Nort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cajama2"/>
          <p:cNvPicPr/>
          <p:nvPr/>
        </p:nvPicPr>
        <p:blipFill>
          <a:blip r:embed="rId1"/>
          <a:stretch/>
        </p:blipFill>
        <p:spPr>
          <a:xfrm>
            <a:off x="4572000" y="1557360"/>
            <a:ext cx="37879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Comic Sans MS"/>
              </a:rPr>
              <a:t>Aspecto Históric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Se desarrollaron en el periodo llamado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INTERMEDIO TARDÍO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, luego de la desaparición del Imperio Wari u Horizonte Medi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xistieron al mismo tiempo que: Chimú, Chachapoyas, Chincha, Reinos Aymaras, Chancas y Reino del Cuz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7" descr="Mapa"/>
          <p:cNvPicPr/>
          <p:nvPr/>
        </p:nvPicPr>
        <p:blipFill>
          <a:blip r:embed="rId1"/>
          <a:stretch/>
        </p:blipFill>
        <p:spPr>
          <a:xfrm>
            <a:off x="4643280" y="1557360"/>
            <a:ext cx="3969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chachapoyas"/>
          <p:cNvPicPr/>
          <p:nvPr/>
        </p:nvPicPr>
        <p:blipFill>
          <a:blip r:embed="rId1"/>
          <a:stretch/>
        </p:blipFill>
        <p:spPr>
          <a:xfrm>
            <a:off x="1116000" y="2043000"/>
            <a:ext cx="3449520" cy="2587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05-01"/>
          <p:cNvPicPr/>
          <p:nvPr/>
        </p:nvPicPr>
        <p:blipFill>
          <a:blip r:embed="rId2"/>
          <a:stretch/>
        </p:blipFill>
        <p:spPr>
          <a:xfrm>
            <a:off x="1258920" y="4653000"/>
            <a:ext cx="3097080" cy="1738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DSC_0119+-+II"/>
          <p:cNvPicPr/>
          <p:nvPr/>
        </p:nvPicPr>
        <p:blipFill>
          <a:blip r:embed="rId3"/>
          <a:stretch/>
        </p:blipFill>
        <p:spPr>
          <a:xfrm>
            <a:off x="5286240" y="2205000"/>
            <a:ext cx="2741760" cy="32767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 flipV="1" rot="10800000">
            <a:off x="1116000" y="469440"/>
            <a:ext cx="705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Comic Sans MS"/>
              </a:rPr>
              <a:t>Alianza con Chimú y Chachapoyas vs. Inc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Comic Sans MS"/>
              </a:rPr>
              <a:t>Cerámica Cajamarc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erámica típica: vasija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trípode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(= tres pat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8" descr="0000002cb"/>
          <p:cNvPicPr/>
          <p:nvPr/>
        </p:nvPicPr>
        <p:blipFill>
          <a:blip r:embed="rId1"/>
          <a:stretch/>
        </p:blipFill>
        <p:spPr>
          <a:xfrm>
            <a:off x="5148360" y="1989000"/>
            <a:ext cx="2879640" cy="2516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00000095"/>
          <p:cNvPicPr/>
          <p:nvPr/>
        </p:nvPicPr>
        <p:blipFill>
          <a:blip r:embed="rId2"/>
          <a:stretch/>
        </p:blipFill>
        <p:spPr>
          <a:xfrm>
            <a:off x="684360" y="3213000"/>
            <a:ext cx="3097080" cy="2081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cajama1a"/>
          <p:cNvPicPr/>
          <p:nvPr/>
        </p:nvPicPr>
        <p:blipFill>
          <a:blip r:embed="rId3"/>
          <a:stretch/>
        </p:blipFill>
        <p:spPr>
          <a:xfrm>
            <a:off x="3780000" y="4508640"/>
            <a:ext cx="18381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Comic Sans MS"/>
              </a:rPr>
              <a:t>Arte funerar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Ventanillas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(= nichos excavados en la roca, servían como tumbas colectivas). Las más famosas: Otuzco y Combay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cajamarca"/>
          <p:cNvPicPr/>
          <p:nvPr/>
        </p:nvPicPr>
        <p:blipFill>
          <a:blip r:embed="rId1"/>
          <a:stretch/>
        </p:blipFill>
        <p:spPr>
          <a:xfrm>
            <a:off x="3348000" y="3068640"/>
            <a:ext cx="4753080" cy="327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cajamarca_sm"/>
          <p:cNvPicPr/>
          <p:nvPr/>
        </p:nvPicPr>
        <p:blipFill>
          <a:blip r:embed="rId2"/>
          <a:stretch/>
        </p:blipFill>
        <p:spPr>
          <a:xfrm>
            <a:off x="1116000" y="3213000"/>
            <a:ext cx="1905120" cy="1257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ajamarca1_sm"/>
          <p:cNvPicPr/>
          <p:nvPr/>
        </p:nvPicPr>
        <p:blipFill>
          <a:blip r:embed="rId3"/>
          <a:stretch/>
        </p:blipFill>
        <p:spPr>
          <a:xfrm>
            <a:off x="1332000" y="4437000"/>
            <a:ext cx="1512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Comic Sans MS"/>
              </a:rPr>
              <a:t>Religión / Comunicación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84720" y="2362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Dios principal =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CATEQUI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(dios del ray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Idioma =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Cu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cajama02"/>
          <p:cNvPicPr/>
          <p:nvPr/>
        </p:nvPicPr>
        <p:blipFill>
          <a:blip r:embed="rId1"/>
          <a:stretch/>
        </p:blipFill>
        <p:spPr>
          <a:xfrm>
            <a:off x="1055520" y="2349360"/>
            <a:ext cx="3095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22:43:30Z</dcterms:created>
  <dc:creator>Beautiful Lia</dc:creator>
  <dc:description/>
  <dc:language>en-US</dc:language>
  <cp:lastModifiedBy>Computo</cp:lastModifiedBy>
  <dcterms:modified xsi:type="dcterms:W3CDTF">2009-11-16T22:18:15Z</dcterms:modified>
  <cp:revision>18</cp:revision>
  <dc:subject/>
  <dc:title>CULTURAS PREHISPÁNICAS DEL PERÚ  CAJAMARCA</dc:title>
</cp:coreProperties>
</file>